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396-07E1-4F84-95F7-D54A8FDD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241-8FFF-4811-A38E-BE092B8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91C-AD44-486F-8D52-81E752EC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905-24AA-480F-84EF-8184B708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7DE5-E8C0-4072-A920-27CF66C0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A15-0C87-4A71-BE37-32458573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DA3-31AE-4B01-A6B9-5F7F150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F9C-26BE-4206-B491-D8F1430D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50C7-8B0F-4E15-A59A-0EB0936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A67-FF9B-4977-BF9B-FD21E11E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950C-B436-443F-A57B-B6D67DB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D53-21FE-44C8-8BAF-159385B6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3185-5581-45B4-A10A-E38306B2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AA15-77FA-4766-A6EE-76F22EC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7620-C888-4427-95F8-EA31A641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4A9B-E72D-4D4C-9002-A277AF47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9E9-4E01-4447-9737-3563F59C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AC7-F3F5-47EE-9267-4A29CC6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E39-4192-4D98-AF4B-CB5A986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673-71FC-43E3-B28B-9F51ADE6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54C-5618-497B-BFC1-63507AC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D81-9EBD-4C5B-BEC4-6550BB1E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B9F-7F36-44A1-A3DF-42ECD37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BBB-AE1F-47A4-8CF5-3978542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697-0ED8-4B6F-A17C-7F3CDB3D60B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F8D2-BDB4-4A92-A08C-FCC45FE8BB9B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Excuse My Dea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nt Sal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0 - 10(4-2) +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(9) - 3(6 - 1) +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8 + 24/4 *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0 - 3(4)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- 4 *2 +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4 + 6(3 * 2)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0 - 10 (2 * 3)+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624040"/>
          <a:ext cx="769608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24040"/>
                    <a:ext cx="76960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06400" y="1962000"/>
          <a:ext cx="760572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962000"/>
                    <a:ext cx="760572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7520" y="1962000"/>
          <a:ext cx="570384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962000"/>
                    <a:ext cx="570384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320" y="6858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8 - 6(2)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4 or 6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2880" y="1916280"/>
          <a:ext cx="63342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916280"/>
                    <a:ext cx="63342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0000" y="1962000"/>
          <a:ext cx="6338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962000"/>
                    <a:ext cx="6338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79720" y="1962000"/>
          <a:ext cx="3260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962000"/>
                    <a:ext cx="3260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22520" y="2755800"/>
          <a:ext cx="59752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55800"/>
                    <a:ext cx="59752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36840" y="1873080"/>
          <a:ext cx="4346640" cy="29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873080"/>
                    <a:ext cx="4346640" cy="29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68560" y="2536920"/>
          <a:ext cx="688176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536920"/>
                    <a:ext cx="688176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590920"/>
          <a:ext cx="8229600" cy="14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229600" cy="14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5335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7 x 5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7 or 49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2/3 + 2 -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 or 5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2 + 3) x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 - 2 + 3 x 2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 or 4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685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5 + 2) - 3 x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6 or -5?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3:26Z</dcterms:created>
  <dc:creator>PA Department of Education</dc:creator>
  <dc:description/>
  <dc:language>en-US</dc:language>
  <cp:lastModifiedBy>Parkland High School</cp:lastModifiedBy>
  <dcterms:modified xsi:type="dcterms:W3CDTF">2010-09-07T17:07:23Z</dcterms:modified>
  <cp:revision>8</cp:revision>
  <dc:subject/>
  <dc:title>Order of Operations</dc:title>
</cp:coreProperties>
</file>